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7CC-0E4D-4B60-9AA0-8A9A13D0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BD7-CDBF-4322-B1C1-32F3AE2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1AB-3259-4032-8C58-7EA21944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070-1824-415C-9F32-4711B8B3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4EB2-A5B0-4A6A-A7B6-A46AEC05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F04-92D4-4A7D-BAC2-6173587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B17E-CB41-4391-8719-9FBA072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1BF-B4CD-4875-A8DE-92DB414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253-4554-40D4-82A6-60AC7635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CBB-F454-4D0C-98AF-CFD7C28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BB72-0B0F-4B66-9DC0-9965BB55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BBE-D3CC-4A38-969E-E4C4083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532A-831B-4ACC-9F0D-B872746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D1F-30F0-433E-AF03-B002C18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8DE0-46A6-43F4-8414-69326DC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8041-1482-408D-859E-837E025F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1039-FF2B-4C7F-9C19-E0004558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3BA-3E1E-4268-AACB-7CB5337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324-A695-41D2-832C-029815F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46A-6447-4B0D-8842-BAFE259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0DD-4F13-4A5E-911F-01C586B4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79B-0D1B-4A10-B844-30E73AA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697-517C-453D-A388-BEE5D58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2DE-B94C-406A-B371-042BD0B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D96-6FCD-4356-B33A-8137007AEEC6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0E49-9049-42D2-AA06-EE943D8ABD14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apter 4 -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plied Book pgs. 90-1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ments in the Earth’s crus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7400" y="1762200"/>
            <a:ext cx="5410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1625760"/>
            <a:ext cx="6629400" cy="431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5320" y="22824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1265400"/>
            <a:ext cx="7772400" cy="432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5320" y="38052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owen’s Reaction Ser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fic (Basaltic) Roc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36680" y="15238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1440" y="2441520"/>
            <a:ext cx="186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 victims in Pompeii covered with lava or 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66880" y="1549440"/>
            <a:ext cx="5791320" cy="473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4851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23:23:54Z</dcterms:created>
  <dc:creator>PA Department of Education</dc:creator>
  <dc:description/>
  <dc:language>en-US</dc:language>
  <cp:lastModifiedBy>PA Department of Education</cp:lastModifiedBy>
  <dcterms:modified xsi:type="dcterms:W3CDTF">2007-12-28T23:51:27Z</dcterms:modified>
  <cp:revision>8</cp:revision>
  <dc:subject/>
  <dc:title>Chapter 4 - Rocks</dc:title>
</cp:coreProperties>
</file>